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4.gif" ContentType="image/gif"/>
  <Override PartName="/ppt/media/image17.png" ContentType="image/png"/>
  <Override PartName="/ppt/media/image22.jpeg" ContentType="image/jpeg"/>
  <Override PartName="/ppt/media/image1.jpeg" ContentType="image/jpeg"/>
  <Override PartName="/ppt/media/image27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114-6FAC-4B33-B1BC-7A6A9798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83DF-4FF2-427D-B4A2-0115A282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3BF-67C5-40B4-A234-B435D66B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C8BA-F38B-450E-A295-7E3F3680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0B2A3-9E35-4522-BC83-521C8F18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7CA0A-5445-46D6-99FA-1E986F2D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A7D4F-D31B-484F-89FD-66CE02B9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26058-8813-4D0D-9DAC-901EE675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88FC7-78CA-42B6-92BE-042F505D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11F2E-091E-4F93-BDFC-8A219021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0F05E-888F-4B51-863C-CD61BC7C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E1C-5A71-4AB7-8A2E-AAF592D9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9F848-42DE-4CD8-BA37-36E51B44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3A24D-E7F5-4FF2-A160-D9A5674A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A2D30-7C25-42F9-893D-396B24B7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1932E-FCE8-436C-859E-75C03B45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75F94-988A-48A0-AD2D-A4AADE23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E703-0A25-4838-836C-B9D4FD23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EE9F-95EF-4775-B83D-69AD1AEA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7CEA-1CA6-4F72-8E31-04B92B46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D51F-793E-4370-8B64-1D71D804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A50-AEE0-4180-9A32-B2A095BC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0A2-F158-49B7-B50F-C32FE28E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90D0-4569-4A97-ABCD-0146A640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44AE-7A6F-419B-8CAC-A9EDEEE3D2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9CD4-3F09-4824-A919-D6319C6F0E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as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 simple definition: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ast is the boundary (interface) between the land and the se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 more complex definition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“The coastal system encompasses all the erosion, transportation and deposition that occurs between the upper reaches of an estuary and the seaward edge of the coastal shelf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Cliff ero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wn here at low ti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liff retreats as the notch is eroded and then the cliff collap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n the process starts all over ag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" y="2584440"/>
            <a:ext cx="4038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Cliff ero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vertime the wave cut platform can become very wi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ventually the coast finds an equilibrium as the wave cut platform becomes wide enough to dissipate the wave energ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356000" y="2560680"/>
            <a:ext cx="431964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Some examp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lamborough head, near Scarborough, North Yorkshi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uble Heads, near Rockhampton, Queensland, Austral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848200" y="1268280"/>
            <a:ext cx="2036880" cy="2517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208480" y="3938760"/>
            <a:ext cx="332424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rosion of a head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formation of headlands and bays will be explained l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ertain types of coasts lead to certain types of geomorphological form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0520" y="3355920"/>
            <a:ext cx="257184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rosion of a head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racks appear in the cliff f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ave pounding and hydraulic action exploit weaknesses in the cliff f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190520" y="3355920"/>
            <a:ext cx="257184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rosion of a head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s the cracks and faults are eroded caves start to for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190520" y="3355920"/>
            <a:ext cx="257184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rosion of a head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s the cave cuts back deeper into the cliff it may cut through into another cave on the other side of the headland to form an ar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r the hydraulic action of the rushing air may form a blow ho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90520" y="3355920"/>
            <a:ext cx="257184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rosion of a head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arch is widened by further eros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ventually the arch may collapse forming a stac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190520" y="3355920"/>
            <a:ext cx="257184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rosion of a head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ventually the stack may become so eroded that it gets undercut and collapses forming a stu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90520" y="3355920"/>
            <a:ext cx="257184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Some examp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Greenstack, flamborough head, North Yorkshi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ondon bridge, Victoria, Austral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237280" y="1432080"/>
            <a:ext cx="3079800" cy="2354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08480" y="3938760"/>
            <a:ext cx="3108600" cy="23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Coas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52480" y="1523880"/>
            <a:ext cx="3359160" cy="2262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859280" y="1487520"/>
            <a:ext cx="3457800" cy="2305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33360" y="3938760"/>
            <a:ext cx="2617920" cy="2303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076720" y="3933720"/>
            <a:ext cx="312120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ides defin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"Tid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 is a generic term used to define the alternating rise and fall in sea level with respect to the land, produced by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avitation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tra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moon and the Su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http://www.bigelow.or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idal rang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idal range is the distance between high and low water marks, (measured vertically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relief of the coast can have an effect on the horizontal range, compare a wide flat beach e.g. Blackpool versus a harbour wa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ther factors effecting ti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cean floor topography (Mediterranean V Atlanti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eteorological influences such as air press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Spring &amp; neap tid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ppen on a 28 day cycle, not annuall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pring tides lead to a large tidal range, the highest tides and the lowest ti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eap tides have a small tidal ran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0" y="2016000"/>
            <a:ext cx="4248000" cy="374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www.alunatime.org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ides and ero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eap tides lead to concentrated erosion on one part of the cli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ides are not directly linked to wave size (wind) so you can get some of the most powerful waves combining with neap tid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195640" y="3855960"/>
            <a:ext cx="4824360" cy="238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www.the-river-thames.co.uk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aves approa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t is very rare that waves approach our coastline at right angles, think about the shape of the coast and the direction of the prevailing wi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753080" y="1969920"/>
            <a:ext cx="382896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5008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aves bend and change as they approach the coa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4097160" cy="2728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716360" y="1847880"/>
            <a:ext cx="4176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ave refra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92360" y="1268280"/>
            <a:ext cx="5688000" cy="32036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45496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 the wave approaches the base of the wave slows down due to fri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 this happens the wave bends to fit with the shape of coas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erosion due to wave energy is concentrated on the headland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dford central schools distric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Headlands &amp; bay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eadlands &amp; bays are often formed where bands of resistant rock prevai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resistant rock forms the headla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material that gets eroded forms the beach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beaches act as a natural sea defence to dissipate the wave energ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648320" y="2722680"/>
            <a:ext cx="403848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Long shore drif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ong shore drift happens in areas where the prevailing waves approach at a non perpendicular ang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.K examples include the Holderness coa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716360" y="2389320"/>
            <a:ext cx="36720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Long shore drif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swash carries sand grains up the beach at an ang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backwash carries grains of sand back down the beach, perpendicular to the se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forms a ‘zig-zag’ movement of sand along the bea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24000" y="2500200"/>
            <a:ext cx="387648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as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most obvious process happening at the coast is wa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reated by wind blowing over the surface of water, this creates ‘drag’ which results in wa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835280" y="4030560"/>
            <a:ext cx="5400720" cy="198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The Issac Newton School, Geography department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Wave terminolog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71640" y="1654200"/>
            <a:ext cx="7129440" cy="44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www.class.unl.edu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hy do they break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s the wave approaches shallow water, the base comes into contact with the ocean b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resulting friction causes the base to retard and the particle motion becomes elliptic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e figure 6.4 page 12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92360" y="3560760"/>
            <a:ext cx="5759280" cy="26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www.class.unl.edu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Constructive 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uses deposition of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quires low energy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ometimes called surging brea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e figure 6.7, page 128 for additional no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47640" y="3362400"/>
            <a:ext cx="5688360" cy="287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The Issac Newton School  Geography Department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Destructive 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anges the shape of the beach profile dramatic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ften called storm waves or surfing brea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e figure 6.7, page 128 for additional no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03280" y="3141720"/>
            <a:ext cx="5977080" cy="30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The Issac Newton School Geography Department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ill in the t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229600" cy="4840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tru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tru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ave he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ave steepn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ave leng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ave perio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 or low ener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ach gradi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ronger swash or backwas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Coastal ero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ok up and define the following from page 13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ave pou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ydraulic pres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bra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ttr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rrosion/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ub-a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uman activ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2T14:15:24Z</dcterms:created>
  <dc:creator>Jonathan McGrath</dc:creator>
  <dc:description/>
  <dc:language>en-US</dc:language>
  <cp:lastModifiedBy>geo6pk</cp:lastModifiedBy>
  <dcterms:modified xsi:type="dcterms:W3CDTF">2005-05-02T09:02:00Z</dcterms:modified>
  <cp:revision>6</cp:revision>
  <dc:subject/>
  <dc:title>Coasts</dc:title>
</cp:coreProperties>
</file>